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8.gif" ContentType="image/gif"/>
  <Override PartName="/ppt/media/start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DB49-6F64-41FB-B7FE-734ED6B6A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B326-D1F3-4F8E-855F-78BE76F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B1D7-7D9B-462B-9A2C-36248F61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63A04-C841-4776-9765-D85647CA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730D-2042-4244-8513-BA65D76B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B3E5-14CC-426C-9D4F-C83F5331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57E49-A1B8-41E1-96D7-ECB9F1EC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DB67-E7D8-4634-9B71-4A8B5763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04611-3737-4D74-8068-D2469B76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5615-A4E4-4F73-A721-34E0884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180E-8CB9-499A-BB0A-158FDD680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D45F0-7DC2-455C-A1BA-D8E37AAC9F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67C5-A85A-4A6A-A1F9-F0AFF2D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509E9-4202-483D-9271-C19A3B26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77622-333F-491E-AC8A-E72EC248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F800F-F8A6-4FB8-809F-FE05CE2C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7B944-8835-4764-BBC1-EFE7A1D0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B7A6A-4A0A-41DA-AA24-DFA28FE3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87990-6F40-4CA7-B5D6-2F02544B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C5F46-27CA-4189-AF3D-CFA41F1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DB7DE-5324-42A7-8398-5D2F08E7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FD4AF-B3F8-4ED8-B8B0-71C90F4B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A292A-2A96-4D8B-91D2-3E75489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AE5D-A6D6-4F29-BF34-2EBE4010FE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CEF3A-8C89-4231-922A-1E953CBAD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3D8C8F-775E-4E18-A148-291A23FE5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6FC4F8-ED00-4858-83DA-8460DD4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46A46E-BED2-462C-B005-449A23AB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E35DFA-522E-48F1-9F7A-0B841D7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176D59-0185-42CD-853B-667F7DDC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10BD87-47A5-4EE2-8359-5EF933DE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8DC9E9-4D48-47F0-B937-BEBC98BE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EEC758-AA72-4C01-B711-779CF1E6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93A28-F8DF-44C1-B0EF-AD89B7D0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BC8DD-0246-4C64-AFBD-D0B576149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E121BA-D3EA-45A1-B142-F7D562DA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4925BF-1C69-41EA-83E3-F1187EA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6B4FD-A75E-4F43-A793-A1288F3CFF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4C48-64E4-4852-A461-BFD3482A5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A3B6-4AFE-42CF-9A46-8F1721BB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04EBC-CF14-4721-AC91-7B2BDBFB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9EF93-EFFB-424C-B7F4-B4C7548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1430-0E44-4F53-8B3D-1F76A228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8D38-DC2F-44A7-8A56-3D6B2092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09FF0-DBAF-4D2D-92DE-F34459C7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9FF18-B968-4290-8849-E894DF3E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5E948-B074-4D79-BF76-17E4D39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774A1-4951-4A5D-94F9-A468953F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B555-C9B6-4B40-BA5D-D8119B7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8956-8D55-4BE3-A252-4F945D7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744FC-8F74-4DE6-AED3-AD9062682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E092-15AC-439F-B66C-6AC139AD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F61FA-B75D-4C0A-89CC-FD12AAB1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12250-8667-4D69-905B-819AC57D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7D30B-E87B-457C-A21E-1E8591DB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4CEF-8C2B-4A48-AFEF-F396FEA5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2AF0-3E6A-4B31-9762-E766E34C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5F926-AECD-4E46-988A-F32E3D8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DC7BB-0914-475A-9561-E4A00C97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B0CEF-F57A-487A-9178-428E7D7C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F19DF-A842-48D7-B852-F82D9C8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BC4B4-32C6-49FE-88E4-C23A72C43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7EFA-3330-4E1E-95E5-7B34BCA37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5D8C-CCE8-47BE-9330-6E29F34D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6FE6-083A-45B1-8EE4-9EDDECBB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0DA1-FC72-42FE-AC2E-89D9D8C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536C-4A96-4B46-87D7-A30C4B36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BECA-4FAB-4F87-94DF-F1AA1D98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2D1-C24F-443E-AB63-F9691AF2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C60F-ECA8-4967-A9B9-437F884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6631-DCBE-49F3-87EF-EA8F3173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9998-3245-48A2-8217-AA84470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E4F9-B860-415E-9A27-C1B02EA6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E341-026F-4968-B457-79C2CE2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FB02-17BD-425E-982E-9B3FCAE46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37FAF-6E6C-4E42-91C1-B2987A7D6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FCF58-DF5B-42ED-BFCA-5D945DD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63C96-57A5-48BB-BAE7-659799D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567E-B87E-4BD2-8134-F081F8D5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42CDC-FDB8-425A-8A14-FAD0051A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DF6B2-A8A7-465D-803A-6B16A0E8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FD51C-46E9-4DA6-9CE0-E0664AED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D459A-836E-4BA1-A307-8158D6B9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16DDA-12A6-45A4-9C8E-E19B5B3D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7019C-A04B-4010-8980-60F4079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0C80A-D0B6-4D32-A193-5CB907C1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4F7F2-0761-43D5-BCBD-252E780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01B91-37DF-40FA-BA8F-09349151E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AF81E-3402-4CED-8AD3-AF71DB144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4F97-0DBD-4FF2-A02B-83DCDC94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F3B22-D747-4E1A-AC19-1A407F3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DE4F5-4277-4F93-A4A2-A641FF6E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68AB2-404F-4EED-B472-6595D1C2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A4A81-D143-4A66-9A63-9B0297F1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6B39C-99AF-4C73-B40C-6AF7F70D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32572-BE5F-4662-A8D4-B292780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0CF54-DFF1-4715-944E-5196E16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80F65-C621-4448-A6E9-CBA562A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A4A97-2A82-4841-A8EF-4A9AF6AB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6E245-7621-4094-B723-607777A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585D-AEEC-4218-B527-0E69F848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8B1B5-C648-4380-87BF-0BC448CDF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98C7-356D-4A23-A531-1BBC7A0EC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EAB2-22B1-44DF-9AFA-243CBCD1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1574-01C9-4EE8-BFB4-87439B6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0782-FAC9-410D-9E24-FA6F11CB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AC11-C1D1-44C8-B52F-7CAC0006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49C3-EA62-4DE9-A8DE-E6A3B93E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9503-3ED1-4D50-94D2-C0E3F04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CDC9-E29B-4189-B6A4-673F0532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21F1-91A0-4EB0-99AA-6DC0E87D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AF1C-4671-4569-A133-933AD41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7343-6408-4314-8CFF-8C39AD5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CE96-CDAA-4E03-BDD2-ADB3C9C1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BD4C-6F7F-4730-A30D-E264D956C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AB7F5-F24C-4AE6-82C0-6808FE5330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BAA45-60A1-4407-9ECD-B185975E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AEB33-E552-4226-8C60-38DE9D9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BD6B4-826F-4FEE-AB1D-2776F14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9D9F7-5C90-4590-9172-CA31F15D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FA243-6155-4F86-87B9-522D324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553BB-67F0-4179-A4C1-D539B259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AE28-A0E2-40B8-A6AB-3B94A575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AD888-372C-48FE-AA51-E47EC9EB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9CF3B-70D4-4AED-AC0B-DA0FCC8E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27EB4-F155-421A-8547-657C6038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905B0-8F88-46EA-AD0B-6E2969B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56B4E-241B-44AD-B469-039C64495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77EC80-FF06-410D-A040-08326BE81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72608-D33D-43E7-8DDA-388BB8B3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1DDF45-633A-4592-BEB5-EC0DA9B8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5A5FC-77D8-4CCD-B9D5-240CDF9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3DDBE5-A1AF-4882-80ED-102054B4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5105-8CF4-429A-9BA8-617B28D8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06BE05-C91D-4E0D-8B14-6836C9C6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D5386-ABF5-4178-9856-2933E75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63BB24-F7AD-4601-98C1-B79B498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A09754-EC00-4B4F-9004-01816349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97297-9FF0-4C72-944F-50A9E76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83F81F-0F34-4F15-84D3-C98DE35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B4761-991E-41B3-A196-3F7AD6EBD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7DDCA-FF67-4B20-B357-D0CD91F50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150A-CD1B-41F3-B584-FE70F2BA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47D5-57B7-4849-894B-8564ABBE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072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072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072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072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072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072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072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7606-70E6-4F45-8892-319FDD73321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13D5-A7FF-4F04-B838-C2E8A0ECAA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5716-D480-49C0-8CEC-D4BB5AE1E4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8E68-84E8-46CC-811F-0585B2D6FB6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174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椭圆 3174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" name="椭圆 3174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174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174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175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175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AE4F-645A-4226-853F-2996BC9BDB2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4DE9-1C0B-4CB1-9846-1B11A86400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CBF4-19CD-460C-AEA0-D27168CFFA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FA35-6673-4AC5-ADCF-87358A3C626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41AF-09D6-47AA-A4F6-F3059BA540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693-414A-4FD6-99E5-F097ECD4079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84E7-FCF6-434F-ADF7-24B852F9B8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5BAF-B07D-4416-AB07-AF60318FFD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26625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矩形 26626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5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755640" y="1986120"/>
            <a:ext cx="7345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求比一个数多（少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百分之几的数是多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578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579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581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582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19458"/>
          <p:cNvGrpSpPr/>
          <p:nvPr/>
        </p:nvGrpSpPr>
        <p:grpSpPr>
          <a:xfrm>
            <a:off x="630360" y="1258920"/>
            <a:ext cx="7974000" cy="1567800"/>
            <a:chOff x="630360" y="1258920"/>
            <a:chExt cx="7974000" cy="1567800"/>
          </a:xfrm>
        </p:grpSpPr>
        <p:sp>
          <p:nvSpPr>
            <p:cNvPr id="500" name="TextBox 2"/>
            <p:cNvSpPr/>
            <p:nvPr/>
          </p:nvSpPr>
          <p:spPr>
            <a:xfrm>
              <a:off x="630360" y="1258920"/>
              <a:ext cx="7974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学校图书室原有图书</a:t>
              </a: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400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册，今年图书册数增加了    。现在图书室有多少册图书？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01" name="组合 19460"/>
            <p:cNvGrpSpPr/>
            <p:nvPr/>
          </p:nvGrpSpPr>
          <p:grpSpPr>
            <a:xfrm>
              <a:off x="1682640" y="1739880"/>
              <a:ext cx="1008000" cy="1086840"/>
              <a:chOff x="1682640" y="1739880"/>
              <a:chExt cx="1008000" cy="1086840"/>
            </a:xfrm>
          </p:grpSpPr>
          <p:sp>
            <p:nvSpPr>
              <p:cNvPr id="502" name="文本框 19461"/>
              <p:cNvSpPr/>
              <p:nvPr/>
            </p:nvSpPr>
            <p:spPr>
              <a:xfrm>
                <a:off x="1682640" y="2220840"/>
                <a:ext cx="1008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03" name="文本框 19462"/>
              <p:cNvSpPr/>
              <p:nvPr/>
            </p:nvSpPr>
            <p:spPr>
              <a:xfrm>
                <a:off x="1787400" y="1739880"/>
                <a:ext cx="360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04" name="直接连接符 19463"/>
              <p:cNvSpPr/>
              <p:nvPr/>
            </p:nvSpPr>
            <p:spPr>
              <a:xfrm>
                <a:off x="1766520" y="229392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05" name="组合 19464"/>
          <p:cNvGrpSpPr/>
          <p:nvPr/>
        </p:nvGrpSpPr>
        <p:grpSpPr>
          <a:xfrm>
            <a:off x="298440" y="2565360"/>
            <a:ext cx="4124160" cy="1800000"/>
            <a:chOff x="298440" y="2565360"/>
            <a:chExt cx="4124160" cy="1800000"/>
          </a:xfrm>
        </p:grpSpPr>
        <p:sp>
          <p:nvSpPr>
            <p:cNvPr id="506" name="AutoShape 27"/>
            <p:cNvSpPr/>
            <p:nvPr/>
          </p:nvSpPr>
          <p:spPr>
            <a:xfrm>
              <a:off x="1541160" y="2827080"/>
              <a:ext cx="2881440" cy="503280"/>
            </a:xfrm>
            <a:prstGeom prst="wedgeRoundRectCallout">
              <a:avLst>
                <a:gd name="adj1" fmla="val -57217"/>
                <a:gd name="adj2" fmla="val 28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把谁看做单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07" name="图片 19466" descr="67"/>
            <p:cNvPicPr/>
            <p:nvPr/>
          </p:nvPicPr>
          <p:blipFill>
            <a:blip r:embed="rId1"/>
            <a:stretch/>
          </p:blipFill>
          <p:spPr>
            <a:xfrm>
              <a:off x="298440" y="256536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组合 19467"/>
          <p:cNvGrpSpPr/>
          <p:nvPr/>
        </p:nvGrpSpPr>
        <p:grpSpPr>
          <a:xfrm>
            <a:off x="5003640" y="2276640"/>
            <a:ext cx="3961080" cy="1798560"/>
            <a:chOff x="5003640" y="2276640"/>
            <a:chExt cx="3961080" cy="1798560"/>
          </a:xfrm>
        </p:grpSpPr>
        <p:sp>
          <p:nvSpPr>
            <p:cNvPr id="509" name="AutoShape 27"/>
            <p:cNvSpPr/>
            <p:nvPr/>
          </p:nvSpPr>
          <p:spPr>
            <a:xfrm>
              <a:off x="5003640" y="2565360"/>
              <a:ext cx="2449800" cy="936720"/>
            </a:xfrm>
            <a:prstGeom prst="wedgeRoundRectCallout">
              <a:avLst>
                <a:gd name="adj1" fmla="val 59203"/>
                <a:gd name="adj2" fmla="val -23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今年图书册数是去年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10" name="图片 19469" descr="49"/>
            <p:cNvPicPr/>
            <p:nvPr/>
          </p:nvPicPr>
          <p:blipFill>
            <a:blip r:embed="rId2"/>
            <a:stretch/>
          </p:blipFill>
          <p:spPr>
            <a:xfrm>
              <a:off x="7535880" y="227664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1" name="组合 19470"/>
          <p:cNvGrpSpPr/>
          <p:nvPr/>
        </p:nvGrpSpPr>
        <p:grpSpPr>
          <a:xfrm>
            <a:off x="668160" y="4076640"/>
            <a:ext cx="4264200" cy="2660400"/>
            <a:chOff x="668160" y="4076640"/>
            <a:chExt cx="4264200" cy="2660400"/>
          </a:xfrm>
        </p:grpSpPr>
        <p:sp>
          <p:nvSpPr>
            <p:cNvPr id="512" name="TextBox 10"/>
            <p:cNvSpPr/>
            <p:nvPr/>
          </p:nvSpPr>
          <p:spPr>
            <a:xfrm>
              <a:off x="668160" y="4076640"/>
              <a:ext cx="36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先求出今年比去年增加的图书册数，再加上原有的册数就是今年的册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3" name="TextBox 21"/>
            <p:cNvSpPr/>
            <p:nvPr/>
          </p:nvSpPr>
          <p:spPr>
            <a:xfrm>
              <a:off x="900000" y="5180040"/>
              <a:ext cx="4032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00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0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00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6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568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（册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答：现在图书室有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568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册图书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14" name="组合 19473"/>
            <p:cNvGrpSpPr/>
            <p:nvPr/>
          </p:nvGrpSpPr>
          <p:grpSpPr>
            <a:xfrm>
              <a:off x="2824200" y="5030640"/>
              <a:ext cx="504720" cy="815400"/>
              <a:chOff x="2824200" y="5030640"/>
              <a:chExt cx="504720" cy="815400"/>
            </a:xfrm>
          </p:grpSpPr>
          <p:sp>
            <p:nvSpPr>
              <p:cNvPr id="515" name="文本框 19474"/>
              <p:cNvSpPr/>
              <p:nvPr/>
            </p:nvSpPr>
            <p:spPr>
              <a:xfrm>
                <a:off x="2824200" y="5386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6" name="文本框 19475"/>
              <p:cNvSpPr/>
              <p:nvPr/>
            </p:nvSpPr>
            <p:spPr>
              <a:xfrm>
                <a:off x="2890800" y="503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7" name="直接连接符 19476"/>
              <p:cNvSpPr/>
              <p:nvPr/>
            </p:nvSpPr>
            <p:spPr>
              <a:xfrm>
                <a:off x="2908440" y="545004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18" name="组合 19477"/>
          <p:cNvGrpSpPr/>
          <p:nvPr/>
        </p:nvGrpSpPr>
        <p:grpSpPr>
          <a:xfrm>
            <a:off x="4619520" y="3917880"/>
            <a:ext cx="4560840" cy="3613680"/>
            <a:chOff x="4619520" y="3917880"/>
            <a:chExt cx="4560840" cy="3613680"/>
          </a:xfrm>
        </p:grpSpPr>
        <p:sp>
          <p:nvSpPr>
            <p:cNvPr id="519" name="TextBox 14"/>
            <p:cNvSpPr/>
            <p:nvPr/>
          </p:nvSpPr>
          <p:spPr>
            <a:xfrm>
              <a:off x="4619520" y="391788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先求出今年图书册数是原有图书册数的几分之几，再根据分数乘法的意义求出今年的册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0" name="TextBox 27"/>
            <p:cNvSpPr/>
            <p:nvPr/>
          </p:nvSpPr>
          <p:spPr>
            <a:xfrm>
              <a:off x="5148360" y="4968720"/>
              <a:ext cx="403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0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40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568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（册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答：现在图书室有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568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册图书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21" name="组合 19480"/>
            <p:cNvGrpSpPr/>
            <p:nvPr/>
          </p:nvGrpSpPr>
          <p:grpSpPr>
            <a:xfrm>
              <a:off x="6248520" y="4879800"/>
              <a:ext cx="1193760" cy="1271160"/>
              <a:chOff x="6248520" y="4879800"/>
              <a:chExt cx="1193760" cy="1271160"/>
            </a:xfrm>
          </p:grpSpPr>
          <p:sp>
            <p:nvSpPr>
              <p:cNvPr id="522" name="文本框 19481"/>
              <p:cNvSpPr/>
              <p:nvPr/>
            </p:nvSpPr>
            <p:spPr>
              <a:xfrm>
                <a:off x="6937200" y="52354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3" name="文本框 19482"/>
              <p:cNvSpPr/>
              <p:nvPr/>
            </p:nvSpPr>
            <p:spPr>
              <a:xfrm>
                <a:off x="7004160" y="4879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4" name="直接连接符 19483"/>
              <p:cNvSpPr/>
              <p:nvPr/>
            </p:nvSpPr>
            <p:spPr>
              <a:xfrm>
                <a:off x="7021440" y="529920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5" name="文本框 19484"/>
              <p:cNvSpPr/>
              <p:nvPr/>
            </p:nvSpPr>
            <p:spPr>
              <a:xfrm>
                <a:off x="6248520" y="5691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6" name="文本框 19485"/>
              <p:cNvSpPr/>
              <p:nvPr/>
            </p:nvSpPr>
            <p:spPr>
              <a:xfrm>
                <a:off x="6248520" y="533556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7" name="直接连接符 19486"/>
              <p:cNvSpPr/>
              <p:nvPr/>
            </p:nvSpPr>
            <p:spPr>
              <a:xfrm>
                <a:off x="6332400" y="5754600"/>
                <a:ext cx="287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28" name="矩形 19487"/>
          <p:cNvSpPr/>
          <p:nvPr/>
        </p:nvSpPr>
        <p:spPr>
          <a:xfrm>
            <a:off x="1638000" y="378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矩形 19488"/>
          <p:cNvSpPr/>
          <p:nvPr/>
        </p:nvSpPr>
        <p:spPr>
          <a:xfrm>
            <a:off x="1854000" y="4005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638280" y="134136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学校图书室原有图书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00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册，今年图书册数增加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现在图书室有多少册图书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Box 16"/>
          <p:cNvSpPr/>
          <p:nvPr/>
        </p:nvSpPr>
        <p:spPr>
          <a:xfrm>
            <a:off x="933480" y="4168800"/>
            <a:ext cx="374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0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68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册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现在图书室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68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册图书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Box 17"/>
          <p:cNvSpPr/>
          <p:nvPr/>
        </p:nvSpPr>
        <p:spPr>
          <a:xfrm>
            <a:off x="4788000" y="416412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0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1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68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册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现在图书室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68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册图书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1395720" y="208116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5" name="组合 20486"/>
          <p:cNvGrpSpPr/>
          <p:nvPr/>
        </p:nvGrpSpPr>
        <p:grpSpPr>
          <a:xfrm>
            <a:off x="231840" y="2565360"/>
            <a:ext cx="4124160" cy="1800360"/>
            <a:chOff x="231840" y="2565360"/>
            <a:chExt cx="4124160" cy="1800360"/>
          </a:xfrm>
        </p:grpSpPr>
        <p:sp>
          <p:nvSpPr>
            <p:cNvPr id="536" name="AutoShape 27"/>
            <p:cNvSpPr/>
            <p:nvPr/>
          </p:nvSpPr>
          <p:spPr>
            <a:xfrm>
              <a:off x="1474560" y="2827440"/>
              <a:ext cx="2881440" cy="888840"/>
            </a:xfrm>
            <a:prstGeom prst="wedgeRoundRectCallout">
              <a:avLst>
                <a:gd name="adj1" fmla="val -57217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这道题和前面那道题有什么不同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37" name="图片 20488" descr="67"/>
            <p:cNvPicPr/>
            <p:nvPr/>
          </p:nvPicPr>
          <p:blipFill>
            <a:blip r:embed="rId1"/>
            <a:stretch/>
          </p:blipFill>
          <p:spPr>
            <a:xfrm>
              <a:off x="231840" y="256536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组合 20489"/>
          <p:cNvGrpSpPr/>
          <p:nvPr/>
        </p:nvGrpSpPr>
        <p:grpSpPr>
          <a:xfrm>
            <a:off x="5614920" y="2349360"/>
            <a:ext cx="3529080" cy="1798560"/>
            <a:chOff x="5614920" y="2349360"/>
            <a:chExt cx="3529080" cy="1798560"/>
          </a:xfrm>
        </p:grpSpPr>
        <p:sp>
          <p:nvSpPr>
            <p:cNvPr id="539" name="AutoShape 27"/>
            <p:cNvSpPr/>
            <p:nvPr/>
          </p:nvSpPr>
          <p:spPr>
            <a:xfrm>
              <a:off x="5614920" y="2638080"/>
              <a:ext cx="2017800" cy="936720"/>
            </a:xfrm>
            <a:prstGeom prst="wedgeRoundRectCallout">
              <a:avLst>
                <a:gd name="adj1" fmla="val 61171"/>
                <a:gd name="adj2" fmla="val -23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能自己试着做一做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40" name="图片 20491" descr="49"/>
            <p:cNvPicPr/>
            <p:nvPr/>
          </p:nvPicPr>
          <p:blipFill>
            <a:blip r:embed="rId2"/>
            <a:stretch/>
          </p:blipFill>
          <p:spPr>
            <a:xfrm>
              <a:off x="7715160" y="234936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矩形 20492"/>
          <p:cNvSpPr/>
          <p:nvPr/>
        </p:nvSpPr>
        <p:spPr>
          <a:xfrm>
            <a:off x="1638000" y="378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矩形 20493"/>
          <p:cNvSpPr/>
          <p:nvPr/>
        </p:nvSpPr>
        <p:spPr>
          <a:xfrm>
            <a:off x="1854000" y="4005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矩形 20494"/>
          <p:cNvSpPr/>
          <p:nvPr/>
        </p:nvSpPr>
        <p:spPr>
          <a:xfrm>
            <a:off x="2069640" y="4221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21506"/>
          <p:cNvGrpSpPr/>
          <p:nvPr/>
        </p:nvGrpSpPr>
        <p:grpSpPr>
          <a:xfrm>
            <a:off x="1463760" y="2133720"/>
            <a:ext cx="6132600" cy="2158920"/>
            <a:chOff x="1463760" y="2133720"/>
            <a:chExt cx="6132600" cy="2158920"/>
          </a:xfrm>
        </p:grpSpPr>
        <p:pic>
          <p:nvPicPr>
            <p:cNvPr id="546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1463760" y="2133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AutoShape 27"/>
            <p:cNvSpPr/>
            <p:nvPr/>
          </p:nvSpPr>
          <p:spPr>
            <a:xfrm>
              <a:off x="3203640" y="2133720"/>
              <a:ext cx="4392720" cy="2158920"/>
            </a:xfrm>
            <a:prstGeom prst="wedgeRoundRectCallout">
              <a:avLst>
                <a:gd name="adj1" fmla="val -56685"/>
                <a:gd name="adj2" fmla="val -4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求比一个数多（或少）百分之几的数是多少的问题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,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与求比一个数多（或少）几分之几是多少的问题的数量关系与解题方法完全相同，只是题目中的分数换成了百分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8" name="矩形 21510"/>
          <p:cNvSpPr/>
          <p:nvPr/>
        </p:nvSpPr>
        <p:spPr>
          <a:xfrm>
            <a:off x="1638000" y="378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矩形 21511"/>
          <p:cNvSpPr/>
          <p:nvPr/>
        </p:nvSpPr>
        <p:spPr>
          <a:xfrm>
            <a:off x="1854000" y="4005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矩形 21512"/>
          <p:cNvSpPr/>
          <p:nvPr/>
        </p:nvSpPr>
        <p:spPr>
          <a:xfrm>
            <a:off x="2069640" y="4221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矩形 21513"/>
          <p:cNvSpPr/>
          <p:nvPr/>
        </p:nvSpPr>
        <p:spPr>
          <a:xfrm>
            <a:off x="2285640" y="4437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矩形 21514"/>
          <p:cNvSpPr/>
          <p:nvPr/>
        </p:nvSpPr>
        <p:spPr>
          <a:xfrm>
            <a:off x="2501640" y="465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468360" y="1341360"/>
            <a:ext cx="8207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龙泉镇去年有小学生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800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，今年比去年减少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5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今年有小学生多少人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Box 3"/>
          <p:cNvSpPr/>
          <p:nvPr/>
        </p:nvSpPr>
        <p:spPr>
          <a:xfrm>
            <a:off x="468360" y="3200400"/>
            <a:ext cx="43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法一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78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今年有小学生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78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4859280" y="3166920"/>
            <a:ext cx="39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法二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8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9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78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今年有小学生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78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"/>
          <p:cNvSpPr/>
          <p:nvPr/>
        </p:nvSpPr>
        <p:spPr>
          <a:xfrm>
            <a:off x="506520" y="135108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袁隆平是我国著名科学家，被誉为“杂交水稻之父”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，袁隆平指导的杂交水稻试验田平均每公顷产量达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近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吨，比全国水稻平均每公顷产量多了约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全国平均每公顷水稻产量大约是多少吨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3922560" y="388296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解：设全国水稻平均每公顷产量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x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.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年全国平均每公顷水稻产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大约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.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0" name="组合 23556"/>
          <p:cNvGrpSpPr/>
          <p:nvPr/>
        </p:nvGrpSpPr>
        <p:grpSpPr>
          <a:xfrm>
            <a:off x="0" y="4797360"/>
            <a:ext cx="4716360" cy="1414440"/>
            <a:chOff x="0" y="4797360"/>
            <a:chExt cx="4716360" cy="1414440"/>
          </a:xfrm>
        </p:grpSpPr>
        <p:pic>
          <p:nvPicPr>
            <p:cNvPr id="561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0" y="4797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AutoShape 27"/>
            <p:cNvSpPr/>
            <p:nvPr/>
          </p:nvSpPr>
          <p:spPr>
            <a:xfrm>
              <a:off x="1332000" y="4797360"/>
              <a:ext cx="3384360" cy="576360"/>
            </a:xfrm>
            <a:prstGeom prst="wedgeRoundRectCallout">
              <a:avLst>
                <a:gd name="adj1" fmla="val -43152"/>
                <a:gd name="adj2" fmla="val 87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想一想，还可以怎样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1836720" y="3887640"/>
            <a:ext cx="612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18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.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吨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年全国平均每公顷水稻产量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大约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.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468360" y="135108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袁隆平是我国著名科学家，被誉为“杂交水稻之父”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，袁隆平指导的杂交水稻试验田平均每公顷产量达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到近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吨，比全国水稻平均每公顷产量多了约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全国平均每公顷水稻产量大约是多少吨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468360" y="1351080"/>
            <a:ext cx="8207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总经理的承诺对吗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3887640" y="4032360"/>
            <a:ext cx="525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0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0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%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32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32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＜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5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总经理的承诺不对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AutoShape 27"/>
          <p:cNvSpPr/>
          <p:nvPr/>
        </p:nvSpPr>
        <p:spPr>
          <a:xfrm>
            <a:off x="1476360" y="2205000"/>
            <a:ext cx="5399280" cy="1317600"/>
          </a:xfrm>
          <a:prstGeom prst="wedgeRoundRectCallout">
            <a:avLst>
              <a:gd name="adj1" fmla="val 57439"/>
              <a:gd name="adj2" fmla="val -85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年我公司的月工资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元，我计划每年使大家月收入递增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，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年大家月收入将达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5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元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0" name="组合 25605"/>
          <p:cNvGrpSpPr/>
          <p:nvPr/>
        </p:nvGrpSpPr>
        <p:grpSpPr>
          <a:xfrm>
            <a:off x="0" y="4221000"/>
            <a:ext cx="3672000" cy="1800000"/>
            <a:chOff x="0" y="4221000"/>
            <a:chExt cx="3672000" cy="1800000"/>
          </a:xfrm>
        </p:grpSpPr>
        <p:sp>
          <p:nvSpPr>
            <p:cNvPr id="571" name="AutoShape 27"/>
            <p:cNvSpPr/>
            <p:nvPr/>
          </p:nvSpPr>
          <p:spPr>
            <a:xfrm>
              <a:off x="1243080" y="4482720"/>
              <a:ext cx="2428920" cy="530280"/>
            </a:xfrm>
            <a:prstGeom prst="wedgeRoundRectCallout">
              <a:avLst>
                <a:gd name="adj1" fmla="val -58560"/>
                <a:gd name="adj2" fmla="val 24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是这样做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572" name="图片 25607" descr="67"/>
            <p:cNvPicPr/>
            <p:nvPr/>
          </p:nvPicPr>
          <p:blipFill>
            <a:blip r:embed="rId1"/>
            <a:stretch/>
          </p:blipFill>
          <p:spPr>
            <a:xfrm>
              <a:off x="0" y="422100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3" name="图片 25608" descr="人物"/>
          <p:cNvPicPr/>
          <p:nvPr/>
        </p:nvPicPr>
        <p:blipFill>
          <a:blip r:embed="rId2"/>
          <a:stretch/>
        </p:blipFill>
        <p:spPr>
          <a:xfrm>
            <a:off x="7093080" y="2060640"/>
            <a:ext cx="931680" cy="21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0:54Z</dcterms:modified>
  <cp:revision>3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